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3E38-8AE3-4FE7-815E-24A1DA0DE2F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and contrast conn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compa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3639-1664-46B6-868A-B51C2E44659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A68-1CCE-41BF-BEB6-6AF389FB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21C-4730-4928-A7FC-C8BFD3B6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BDB-384F-4B4F-A239-A147991E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807-B235-417A-B9A2-D1E79A7D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1E3-8E5B-47F1-848F-E2645498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CB8-011E-44FA-912A-DF69C8CC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DD1-A49F-4996-B392-49A01E02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C40-3319-4F4C-AB09-AB171EB3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A4E-91BD-4B71-8C00-70671CA3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033-BA85-49CA-926D-D9BEFC1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B9F-98D0-4545-A8CE-0E77B5F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4BA-64DE-482B-93EC-A2D7218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5976-5EC9-4EC8-96E1-D8B9E426F26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and Contrast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Compar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atives are used with adjectives, adverbs, and nouns to show differences btw two subjec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using a comparative in a sentence, we sometimes delete the second subject and verb. We also sometimes use the comparative witho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n the context is cle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24) Exercise 5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omparative essay describe the qualities of a subject or idea by discussing the 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similarit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differ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t shares with a different subject or id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oint-to-point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amines one feature at a time for both similarities and differ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Whole-to-whole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amines one object/idea as a whole and then the 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Similarity-and-difference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esents all of the similarities between the two things and then the differ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p.116) My two hom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Quetzaltenango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re commonly known as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Xel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shay-la), is the second most populous city of Guatema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two places does the author compa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is statemen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ucture? (point-to-point? Whole-to-whole? Similarities-differences?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milaritie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fference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your own words, describe the writer’s feelings about the two plac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son and contrast conn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compa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son and Contrast Conn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001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Sentence connec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used to express relationships between ideas and to combine senten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Connec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help creat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oher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indicating the relationship between ideas in scie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onnector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Conjun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oordina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junction: two sentences are equally import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ubordina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junctions:  one sentence is less important than the 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Conjunctive adver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Prepo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ombine the two sentences by a conn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Calibri"/>
              </a:rPr>
              <a:t>High level positions are stressful at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Calibri"/>
              </a:rPr>
              <a:t>The financial rewards make these positions very desirable inde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wing Contrast (differenc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58040" cy="4757760"/>
        </p:xfrm>
        <a:graphic>
          <a:graphicData uri="http://schemas.openxmlformats.org/drawingml/2006/table">
            <a:tbl>
              <a:tblPr/>
              <a:tblGrid>
                <a:gridCol w="1576440"/>
                <a:gridCol w="1727280"/>
                <a:gridCol w="495432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Connec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nector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conjun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 at times,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financial rewards make these positions very desirable inde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ordinating conjun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as, wh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igh level positions are stressful at times, the financial rewards make these positions very desirable indeed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junctive adverb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ntrast, on the other h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 at times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on the other hand,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financial rewards make these positions very desirable inde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o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ik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ik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undesirable stress of high level positions, the financial rewards make these positions very desirable inde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wing Comparison (Similariti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58040" cy="4757760"/>
        </p:xfrm>
        <a:graphic>
          <a:graphicData uri="http://schemas.openxmlformats.org/drawingml/2006/table">
            <a:tbl>
              <a:tblPr/>
              <a:tblGrid>
                <a:gridCol w="1576440"/>
                <a:gridCol w="1727280"/>
                <a:gridCol w="495432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Connec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nector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conjun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...to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,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n be harmful to your health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ordinating conjun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, they can be harmful to your health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junctive adverb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ly, in compari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evel positions are stressful at times;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ly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they can be harmful to your health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o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, similar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important professions, high level business positions are stressful at tim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19) Exercise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4:05:08Z</dcterms:created>
  <dc:creator>Windows 使用者</dc:creator>
  <dc:description/>
  <dc:language>en-US</dc:language>
  <cp:lastModifiedBy>Windows 使用者</cp:lastModifiedBy>
  <dcterms:modified xsi:type="dcterms:W3CDTF">2009-05-15T09:25:51Z</dcterms:modified>
  <cp:revision>18</cp:revision>
  <dc:subject/>
  <dc:title>Unit 5  Comparison and Contrast Essays</dc:title>
</cp:coreProperties>
</file>